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692-10E2-4C72-9C99-8E50D1E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70E-36F0-4B13-8A98-371CC03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8F1-D3F8-451F-92B5-BA4E3A3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F73-96AA-4143-9581-81B50EA5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40D-F762-4B6A-9001-E0FEA588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C26-6627-448B-AA55-D1189CB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98-7E53-40EB-92FB-94CC164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497-AC41-481C-9B2E-25C39E2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5CA-DE16-44D0-BD90-9FE20AF4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E60-0328-4DA5-8326-B0809AF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C93-B277-4CAA-B8D7-71D58E5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024-2297-48A4-B491-2C105AF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CDC-3CA7-4B0D-9491-E7BAF76D7C3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9:02:37Z</dcterms:created>
  <dc:creator>Grupo Editorial</dc:creator>
  <dc:description/>
  <dc:language>en-US</dc:language>
  <cp:lastModifiedBy>TORRES</cp:lastModifiedBy>
  <dcterms:modified xsi:type="dcterms:W3CDTF">2010-12-18T22:17:02Z</dcterms:modified>
  <cp:revision>2</cp:revision>
  <dc:subject/>
  <dc:title>Sin título de diapositiva</dc:title>
</cp:coreProperties>
</file>